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019-A823-4EBA-9834-0C37C515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D89-F7B9-4CB3-A7E9-E457BD68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4A4-E206-49E9-B9A8-142B8D85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B931-E187-4393-A8E8-C56698C69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326D-6495-43FA-9A2A-56EC806D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523F-83D4-4F0B-86D9-8A646EF6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D97E-3112-4F30-8936-147D8A48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8593-320D-4E73-9DAF-B87F3B86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0765-B1E2-4B1B-87EE-D7C11EA1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2911-2593-4C02-A75A-F56A132A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7599-BE8C-4022-B4B4-BFCEF15B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9262-FA77-482E-BC60-DBB3E457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745C-2B86-490F-85ED-58070E9F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6984-BE50-4069-8611-66185B8F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4955-5363-45CF-BF5E-9475C5D9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5220-4C22-46FC-A817-89BA861D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F4DC-CC28-4D98-8574-01FD24BE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E48-462F-4BAB-BCF9-D5200FFB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426-2422-46BF-AEDE-7A3F5A69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20C-F7BD-45C0-B6E3-EA3EC7D7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3DF-024F-45E0-9BA4-64C2DC5D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DB9-59E6-4A05-B45F-0AD46B1C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3170-4439-42CA-97EC-281C9D7D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936-B691-4266-A0E7-A935305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676CD57-5586-4D70-8929-67C0E7A4FB36}" type="slidenum">
              <a:rPr b="0" lang="en-GB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3720" y="402840"/>
            <a:ext cx="86932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3720" y="2012760"/>
            <a:ext cx="869328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1972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3803ED9-D2FC-4DA7-A59D-66F2680010D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ZoneTexte 2"/>
          <p:cNvSpPr/>
          <p:nvPr/>
        </p:nvSpPr>
        <p:spPr>
          <a:xfrm>
            <a:off x="54000" y="1808280"/>
            <a:ext cx="9901080" cy="556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ZoneTexte 3"/>
          <p:cNvSpPr/>
          <p:nvPr/>
        </p:nvSpPr>
        <p:spPr>
          <a:xfrm>
            <a:off x="2160720" y="3564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ESENTATION LIBRE A INSERER DANS CADRE N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ZoneTexte 6"/>
          <p:cNvSpPr/>
          <p:nvPr/>
        </p:nvSpPr>
        <p:spPr>
          <a:xfrm>
            <a:off x="84240" y="1020600"/>
            <a:ext cx="991224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Référence 1 de la sélection de 5 références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signation de l’opération :                                                                                                 Maître d’ouvrage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ant des travaux HT 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urface : ………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réhabilité …….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ne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ée(s) de réalisation des travaux et durée des travaux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urée des études : …….mo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Image 1" descr=""/>
          <p:cNvPicPr/>
          <p:nvPr/>
        </p:nvPicPr>
        <p:blipFill>
          <a:blip r:embed="rId1"/>
          <a:stretch/>
        </p:blipFill>
        <p:spPr>
          <a:xfrm>
            <a:off x="216000" y="41400"/>
            <a:ext cx="1652400" cy="7444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1700280" y="77760"/>
            <a:ext cx="8096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PUBLIC GLOBAL PORTANT SUR LA CONCEPTION, LA REALISATION, L’EXPLOITATION ET LA MAINTENANCE DE LA CHAUFFERIE DU SITE DE CHATELLERAUL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2025F200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nnexe 3: Présentation des visue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ZoneTexte 2"/>
          <p:cNvSpPr/>
          <p:nvPr/>
        </p:nvSpPr>
        <p:spPr>
          <a:xfrm>
            <a:off x="54000" y="1808280"/>
            <a:ext cx="9901080" cy="556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ZoneTexte 3"/>
          <p:cNvSpPr/>
          <p:nvPr/>
        </p:nvSpPr>
        <p:spPr>
          <a:xfrm>
            <a:off x="2160720" y="3564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ESENTATION LIBRE A INSERER DANS CADRE N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ZoneTexte 6"/>
          <p:cNvSpPr/>
          <p:nvPr/>
        </p:nvSpPr>
        <p:spPr>
          <a:xfrm>
            <a:off x="84240" y="1065240"/>
            <a:ext cx="991224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Référence 2 de la sélection de 5 références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signation de l’opération :                                                                                                 Maître d’ouvrage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ant des travaux HT 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urface : ………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réhabilité …….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ne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ée(s) de réalisation des travaux et durée des travaux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urée des études : …….mo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Image 1" descr=""/>
          <p:cNvPicPr/>
          <p:nvPr/>
        </p:nvPicPr>
        <p:blipFill>
          <a:blip r:embed="rId1"/>
          <a:stretch/>
        </p:blipFill>
        <p:spPr>
          <a:xfrm>
            <a:off x="216000" y="41400"/>
            <a:ext cx="1652400" cy="7444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1655640" y="135000"/>
            <a:ext cx="809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PUBLIC GLOBAL CONCEPTION REALISATION EXPLOITATION MAINTENANCE DE LA CHAUFFERIE DU SITE DE CHATELLERAUL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2025F200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nnexe 3: Présentation des visue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ZoneTexte 2"/>
          <p:cNvSpPr/>
          <p:nvPr/>
        </p:nvSpPr>
        <p:spPr>
          <a:xfrm>
            <a:off x="54000" y="1808280"/>
            <a:ext cx="9901080" cy="556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ZoneTexte 3"/>
          <p:cNvSpPr/>
          <p:nvPr/>
        </p:nvSpPr>
        <p:spPr>
          <a:xfrm>
            <a:off x="2160720" y="3564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ESENTATION LIBRE A INSERER DANS CADRE N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ZoneTexte 6"/>
          <p:cNvSpPr/>
          <p:nvPr/>
        </p:nvSpPr>
        <p:spPr>
          <a:xfrm>
            <a:off x="69840" y="1046160"/>
            <a:ext cx="991224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Référence 3 de la sélection de 5 références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signation de l’opération :                                                                                                 Maître d’ouvrage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ant des travaux HT 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urface : ………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réhabilité …….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ne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ée(s) de réalisation des travaux et durée des travaux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urée des études : …….mo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Image 1" descr=""/>
          <p:cNvPicPr/>
          <p:nvPr/>
        </p:nvPicPr>
        <p:blipFill>
          <a:blip r:embed="rId1"/>
          <a:stretch/>
        </p:blipFill>
        <p:spPr>
          <a:xfrm>
            <a:off x="216000" y="41400"/>
            <a:ext cx="1652400" cy="7444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1655640" y="212760"/>
            <a:ext cx="809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PUBLIC GLOBAL CONCEPTION REALISATION EXPLOITATION MAINTENANCE DE LA CHAUFFERIE DU SITE DE CHATELLERAUL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2025F200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nnexe 3: Présentation des visue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ZoneTexte 2"/>
          <p:cNvSpPr/>
          <p:nvPr/>
        </p:nvSpPr>
        <p:spPr>
          <a:xfrm>
            <a:off x="54000" y="1808280"/>
            <a:ext cx="9901080" cy="556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ZoneTexte 3"/>
          <p:cNvSpPr/>
          <p:nvPr/>
        </p:nvSpPr>
        <p:spPr>
          <a:xfrm>
            <a:off x="2160720" y="3564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ESENTATION LIBRE A INSERER DANS CADRE N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ZoneTexte 6"/>
          <p:cNvSpPr/>
          <p:nvPr/>
        </p:nvSpPr>
        <p:spPr>
          <a:xfrm>
            <a:off x="84240" y="1046160"/>
            <a:ext cx="991224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Référence 4 de la sélection de 5 références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signation de l’opération :                                                                                                 Maître d’ouvrage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ant des travaux HT 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urface : ………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réhabilité …….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ne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ée(s) de réalisation des travaux et durée des travaux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urée des études : …….mo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Image 1" descr=""/>
          <p:cNvPicPr/>
          <p:nvPr/>
        </p:nvPicPr>
        <p:blipFill>
          <a:blip r:embed="rId1"/>
          <a:stretch/>
        </p:blipFill>
        <p:spPr>
          <a:xfrm>
            <a:off x="216000" y="41400"/>
            <a:ext cx="1652400" cy="7444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1655640" y="212760"/>
            <a:ext cx="809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PUBLIC GLOBAL CONCEPTION REALISATION EXPLOITATION MAINTENANCE DE LA CHAUFFERIE DU SITE DE CHATELLERAUL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2025F200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nnexe 3: Présentation des visue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oneTexte 2"/>
          <p:cNvSpPr/>
          <p:nvPr/>
        </p:nvSpPr>
        <p:spPr>
          <a:xfrm>
            <a:off x="54000" y="1808280"/>
            <a:ext cx="9901080" cy="556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ZoneTexte 3"/>
          <p:cNvSpPr/>
          <p:nvPr/>
        </p:nvSpPr>
        <p:spPr>
          <a:xfrm>
            <a:off x="2160720" y="3564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ESENTATION LIBRE A INSERER DANS CADRE NO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ZoneTexte 6"/>
          <p:cNvSpPr/>
          <p:nvPr/>
        </p:nvSpPr>
        <p:spPr>
          <a:xfrm>
            <a:off x="84240" y="1066680"/>
            <a:ext cx="991224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Référence 5 de la sélection de 5 références 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ésignation de l’opération :                                                                                                 Maître d’ouvrage 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ontant des travaux HT :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urface : ………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réhabilité ……..m</a:t>
            </a:r>
            <a:r>
              <a:rPr b="0" lang="fr-FR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neuf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Année(s) de réalisation des travaux et durée des travaux: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urée des études : …….mo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Image 1" descr=""/>
          <p:cNvPicPr/>
          <p:nvPr/>
        </p:nvPicPr>
        <p:blipFill>
          <a:blip r:embed="rId1"/>
          <a:stretch/>
        </p:blipFill>
        <p:spPr>
          <a:xfrm>
            <a:off x="216000" y="20520"/>
            <a:ext cx="1652400" cy="7444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1655640" y="212760"/>
            <a:ext cx="8096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PUBLIC GLOBAL CONCEPTION REALISATION EXPLOITATION MAINTENANCE DE LA CHAUFFERIE DU SITE DE CHATELLERAUL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ARCHE 2025F200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nnexe 3: Présentation des visue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COMTE Laurence</dc:creator>
  <dc:description/>
  <dc:language>en-US</dc:language>
  <cp:lastModifiedBy>Warneys Julie</cp:lastModifiedBy>
  <cp:lastPrinted>2019-01-30T09:03:11Z</cp:lastPrinted>
  <dcterms:modified xsi:type="dcterms:W3CDTF">2025-01-09T14:11:32Z</dcterms:modified>
  <cp:revision>130</cp:revision>
  <dc:subject/>
  <dc:title>Présentation PowerPoint</dc:title>
</cp:coreProperties>
</file>